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EEE0-F57E-4AD0-A0A2-F20DF38CA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E979-363E-497C-A552-985B9D087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F36A-7F3D-4FD9-8E29-9184A1E8B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7297-F532-40BB-9580-1C351EC09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A6BC-6272-4E4D-B612-17A8DA0D6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7AE5-AE37-4C07-95E9-7BAF07153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10CB-BC6A-423E-BBC4-1A8453A2C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6574-B384-4E14-8CD6-BDD7ADDDF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9ED3-0A95-44C5-B41D-65065577D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армације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Вештина комуникације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штина комуникације са пацијентима у вези са учешћем у клиничком истраживању (студији) 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ф. др Драган Миловано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рмакологија и токсик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дицински факултет у Крагујев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ставне једин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тервју са пацијентом који се укључује у клиничку студиј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ормисани пристанак пациј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уникација са сарадником у лече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линичка студија и испита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ита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видуална особа која учествује у клиничкој студији, било да прима нови лек који се испитује или  учествује као контр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уп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грут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формисани приста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ржавање у студ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ветовање током студ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кументи за етички од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теријал који ће се користити за регрутовање пације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ормација за пацијента на српском јез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ормулар за пристанак пациј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пис осигурања пациј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грутовање - истражив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својити стратегије доказане у претходним студ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и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 сарадњу лекара опште прак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ордини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и мултипле страте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шћење евиденци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олесника са стањем од интер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шћењ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пућивања од лек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шћењ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пућивања од лаборато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шћење мед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збедити повратне информације 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претку регрутациј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формисани пристан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а се испитује у овој студи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та је хипотеза студиј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 ће се користити резулта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чему се третман у студији разликује од уобичајеног лечењ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ве су процедуре предвиђене код учешћа у студиј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ви су ризици и непријатности од учешћа у студиј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формисани пристанак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ве су користи по пацијента и друш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ли постоји алтернативно лечењ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ји начин је обезбеђена приватност података испита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ли је предвиђена компензација за учешће у студиј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ли је учешће у студији добровољ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 којим условима није дозвољено Ваше учешће у студиј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формисани пристанак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 којим условима није дозвољено Ваше учешће у студиј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оји начин се остварује контакт са истраживачи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акт адресе и подац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раживач за главни конта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раживач за резервни конта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Milanče Sin</cp:lastModifiedBy>
  <dcterms:modified xsi:type="dcterms:W3CDTF">2023-02-05T16:10:44Z</dcterms:modified>
  <cp:revision>33</cp:revision>
  <dc:subject/>
  <dc:title>Slide 1</dc:title>
</cp:coreProperties>
</file>